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094-8C48-4C45-88EE-3F1F436C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AB5-189A-44D6-BF27-A5C15103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2B2-E7B9-4954-91CB-F146B4E0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FE8-D043-4CEB-A204-155629A8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71A3-DD6A-4121-A4C2-AB3BA143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B372-4F64-4EFE-B3CD-398A3412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A316-59D8-4391-ADB9-DF52927C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5697-54F5-411D-BDCB-D872CB8F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6C1D-2FA2-475A-9E5C-EE89F65D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20A4-153D-407F-8E7D-48ABAEFB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E57D-6723-4B90-943D-00B205BE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D94-9C36-4750-8370-FE07C399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3B61-2DA9-479F-8A84-81DC5800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1740-20CE-4DD2-B9B3-4D92C8C9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9CA8-9899-4652-9A78-40ADBE27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3EF4-3FD3-4542-B3C8-E96BF2B8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B663-1685-4459-9651-38340E83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B24-9FC5-43A6-A8E4-FA104797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95B-695C-48E9-896E-858B37E8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F88-7F1F-4194-B9F1-20E21B2D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CB5-5444-4FAE-82E7-C53050C8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D3B-A237-4238-A00A-521A76ED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B34-39AD-449C-97DD-033517E9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02C-FA33-4B62-812A-E0F6836D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6D13-D36B-4EDA-BF1A-CF93515B1E67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8B2E-591A-403F-8BC5-A5953FC61BBB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odel%20Scenario.doc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Rubric.doc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d2204"/>
                </a:solidFill>
                <a:latin typeface="Arial"/>
              </a:rPr>
              <a:t>Effective Communication Strategies</a:t>
            </a:r>
            <a:endParaRPr b="1" lang="en-US" sz="40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y is it imperative that I present myself in a positive and helpful manner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 I communicate with those who need my assistance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Have you ever felt uncomfortable when you asked someone for help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The way you speak to someone reflects directly on who you are and how you make them fe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As an iSqauder your job is to help those in need to feel comfortable using technology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164"/>
                </a:solidFill>
                <a:latin typeface="Arial"/>
              </a:rPr>
              <a:t>Today we are going to talk about some appropriate ways to communicate with oth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1:  Read the </a:t>
            </a:r>
            <a:r>
              <a:rPr b="0" lang="en-US" sz="28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Model Scenari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Step 2:  Chart positives and negatives about the scenario.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0" y="2362320"/>
          <a:ext cx="4114800" cy="3886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4572000" y="19051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Positive</a:t>
            </a: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12164"/>
                </a:solidFill>
                <a:latin typeface="Arial"/>
              </a:rPr>
              <a:t>     Negative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n this session you will read scenarios that might occur as a Mouse Squad Technician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You should use the positive communication skills discussed to guide you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Each scenario is different and you may not know the answer but how you handle the situation is most importan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Before you break into groups to practice lets list positive communication skills  we should keep in mind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In Groups of three assign the following roles: 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Distressed User, Laptop Technician, Observ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Chose possible scenario 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Use positive communication skills discussed to “act out” scenari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Observer will rate how Laptop Technician handled situation with </a:t>
            </a:r>
            <a:r>
              <a:rPr b="0" lang="en-US" sz="28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rubric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Rotate roles with each scenario until all have been “acted out”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03-12T22:39:27Z</dcterms:modified>
  <cp:revision>7</cp:revision>
  <dc:subject/>
  <dc:title>Workshop Title</dc:title>
</cp:coreProperties>
</file>